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D56E-355D-4C8D-9F18-FE1DB7DA7FC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A1D1-FAC4-4FFE-B14A-F120242B300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6852-5111-4A61-851D-F0F182C1D01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4210-BC1F-4440-B5DA-A900B829CA6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EA88-6659-4589-83F0-34B9233D7C3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B530-3110-4416-BC00-BD814651BBC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63C9-584B-4D67-A5F6-CB2F02531F8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6D62-7C1C-4BD5-98AE-D556E49775D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5CCC-A0CB-4705-9872-723564CA2D9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0901-05D8-4427-A093-7F3DABF829A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19D5-41BD-4C98-AB28-591B793D277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6AAA-9EB4-4A1C-AF52-A7831E79D8A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88B2-9F91-4564-A2A4-47EB0E4D278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957F-E36E-44DD-B088-19017D093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EAB8-904A-421C-86D5-897EC18C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F661-2F34-4536-9DA1-25937F519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62FA-21CF-4534-98D1-977E47F5C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E919-E4DD-4DFF-AF52-DCCB4942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E52E-66E7-4B69-9D6C-5B10675A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C0C1-E37B-47CC-B7D8-5C60A980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E9B2-9CD3-4C52-B6F8-527CDBFE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817B-AC16-4D9B-A139-1DF3D14D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862D-99F4-420D-9E87-73079240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E341-AD04-4B5B-B629-BFEC2D24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F3FF-F22E-4B0A-A6B4-007BB476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5A27-3513-4EC6-8FE4-3D3A1403F9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ABA- EBF Conferenc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-regional Banking Cooperation: Solid Financial Future</a:t>
            </a:r>
            <a:br>
              <a:rPr sz="3200"/>
            </a:br>
            <a:br>
              <a:rPr sz="24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Relevance of the Experience of Financial Integration in Europe to the Eurasian Markets”</a:t>
            </a:r>
            <a:br>
              <a:rPr sz="3200"/>
            </a:br>
            <a:br>
              <a:rPr sz="18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uido Ravoet, EBF Secretary General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ursday, 27 May 2010 - Baku, Azerbaij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5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6" name="Rectangle 19"/>
            <p:cNvSpPr/>
            <p:nvPr/>
          </p:nvSpPr>
          <p:spPr>
            <a:xfrm>
              <a:off x="0" y="2571840"/>
              <a:ext cx="131508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>
              <a:off x="1304640" y="2571840"/>
              <a:ext cx="131508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>
              <a:off x="2609640" y="2571840"/>
              <a:ext cx="131508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ectangle 22"/>
            <p:cNvSpPr/>
            <p:nvPr/>
          </p:nvSpPr>
          <p:spPr>
            <a:xfrm>
              <a:off x="3904200" y="2571840"/>
              <a:ext cx="131508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>
              <a:off x="5209200" y="2571840"/>
              <a:ext cx="131508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>
              <a:off x="6524280" y="2571840"/>
              <a:ext cx="131508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>
              <a:off x="7828920" y="2571840"/>
              <a:ext cx="131508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Relevance of EU experience for Eura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Put sufficient effort into preparat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ecure joint commitmen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Ensure continuous participation &amp; involvemen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ke into account all regions’ differenc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Monitor integration of various market’ segment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ecure political stability and sound monetary and fiscal polic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8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Per aspera ad a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e path might be challenging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e benefits are worth the effort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20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TextBox 22" descr=""/>
          <p:cNvPicPr/>
          <p:nvPr/>
        </p:nvPicPr>
        <p:blipFill>
          <a:blip r:embed="rId1"/>
          <a:stretch/>
        </p:blipFill>
        <p:spPr>
          <a:xfrm>
            <a:off x="-231840" y="165240"/>
            <a:ext cx="9382320" cy="8413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23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5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216" name="Title 1"/>
          <p:cNvSpPr/>
          <p:nvPr/>
        </p:nvSpPr>
        <p:spPr>
          <a:xfrm>
            <a:off x="0" y="1428840"/>
            <a:ext cx="91440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Thank you for your attention!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EBF 50</a:t>
            </a:r>
            <a:r>
              <a:rPr b="1" i="1" lang="en-US" sz="3600" spc="-1" strike="noStrike" baseline="30000">
                <a:solidFill>
                  <a:srgbClr val="e46c0a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 Annivers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7" name="Group 14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218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Group 38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22" name="Rectangle 39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Rectangle 40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Rectangle 41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Rectangle 42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Rectangle 43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Rectangle 44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Rectangle 45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97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EBF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98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18" descr="Carte Europe.jpg"/>
          <p:cNvPicPr/>
          <p:nvPr/>
        </p:nvPicPr>
        <p:blipFill>
          <a:blip r:embed="rId2"/>
          <a:stretch/>
        </p:blipFill>
        <p:spPr>
          <a:xfrm>
            <a:off x="1214280" y="1285920"/>
            <a:ext cx="5126040" cy="5559480"/>
          </a:xfrm>
          <a:prstGeom prst="rect">
            <a:avLst/>
          </a:prstGeom>
          <a:ln w="0">
            <a:noFill/>
          </a:ln>
        </p:spPr>
      </p:pic>
      <p:sp>
        <p:nvSpPr>
          <p:cNvPr id="66" name="Text Placeholder 3"/>
          <p:cNvSpPr/>
          <p:nvPr/>
        </p:nvSpPr>
        <p:spPr>
          <a:xfrm>
            <a:off x="6357960" y="1428840"/>
            <a:ext cx="2571840" cy="528624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BE" sz="1800" spc="-1" strike="noStrike">
                <a:solidFill>
                  <a:srgbClr val="1f497d"/>
                </a:solidFill>
                <a:latin typeface="Calibri"/>
              </a:rPr>
              <a:t>31 national member associatio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27 EU Member St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4 EFTA countr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13 Associ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ounded Rectangle 787"/>
          <p:cNvSpPr/>
          <p:nvPr/>
        </p:nvSpPr>
        <p:spPr>
          <a:xfrm>
            <a:off x="6429240" y="318132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ounded Rectangle 788"/>
          <p:cNvSpPr/>
          <p:nvPr/>
        </p:nvSpPr>
        <p:spPr>
          <a:xfrm>
            <a:off x="6429240" y="407196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ounded Rectangle 789"/>
          <p:cNvSpPr/>
          <p:nvPr/>
        </p:nvSpPr>
        <p:spPr>
          <a:xfrm>
            <a:off x="6429240" y="496728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Group 819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1" name="Rectangle 820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821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Rectangle 822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Rectangle 823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824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825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Rectangle 826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Definition of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market for a given set of financial instruments and/or services is fully integrated if all potential market participants with the same relevant characteristic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face a single set of rules when they decide to deal with those financial instruments and/or servic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have equal access to the above-mentioned set of financial instruments and/or services;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are treated equally when they are active in the mark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9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Benefits of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ore opportunities for risk sharing and risk diversification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etter allocation of capital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mproved liquidity of markets and strengthened resilience to shocks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mooth operation of payment system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nhanced information and competitiveness;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Potential for higher grow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1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Conditions for su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o benefit from financial integration,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inter alia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wo core conditions must be me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completion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of all segments of financial integration in the region,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stability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of this financially integrated reg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2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eps towards EU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60s – removal of restrictions on freedom of establishment and freedom of provision of servic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87 – Single European Act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90 – Economic Monetary Union (freedom of the movement of capital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99 – Financial Services Action Plan and introduction of the eur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2005 – White Paper of Financial Services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4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igns of increasing integration in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transaction volum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ore diversified reserve currency system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ond market integration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quities market integration;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anking sector integr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5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ability and financial superv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integration and development can increase the efficiency of a financial system, if it is accompanied by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adequate legal and regulatory framework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corporate governance, market infrastructure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supervision should assess, in real tim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the build-up of within-market risk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cross-market contagion,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linkages between large and complex financial institu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7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0:04:27Z</dcterms:created>
  <dc:creator>Sanaa Rouiha</dc:creator>
  <dc:description/>
  <dc:language>en-US</dc:language>
  <cp:lastModifiedBy>Viktorija Proskurovska</cp:lastModifiedBy>
  <dcterms:modified xsi:type="dcterms:W3CDTF">2010-06-01T08:16:21Z</dcterms:modified>
  <cp:revision>115</cp:revision>
  <dc:subject/>
  <dc:title>EUROPEAN BANKING FEDE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226578DF2B3B64A903F9075E79A1D84</vt:lpwstr>
  </property>
</Properties>
</file>